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click.wav" ContentType="audio/x-wav"/>
  <Override PartName="/ppt/media/image16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C43-9BF4-4094-8CCF-C9F585A4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9A5-D52F-4054-9F23-6DE613AA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E63-1053-4CF1-8469-70049F64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FCB-940B-4460-A0C9-A7274B93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8193-ABC0-4D2E-AE51-A4F9A3CD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3974-08E4-4865-AB6A-8ADFB238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BFC-887F-4E68-8A3A-F1A5A757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9992-156E-47BB-AD9A-2335D84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9EB9-D39D-4C3B-872A-01134862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31680" y="380880"/>
            <a:ext cx="715788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A733-9DA3-40DC-A712-450EA3FE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6B31-FFD1-4CD5-973F-EE341D6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E3E-62E6-42B9-B5CD-7F70FD10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F11A-BE75-4A2E-A23F-88401BF8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DFC6-321A-4505-8435-9329406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3FE9-E3A3-4AFB-ABA0-3AF47569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8631-2A3A-41A9-8211-1402A162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8471-5DBC-4A43-8D79-0B3B9BBF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5A9-6BC9-4A40-92B5-F54FFB78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E6E-3C22-423B-A12A-9E2DDF8B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E5E-B9B2-4C2C-B4AC-591C1605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31680" y="380880"/>
            <a:ext cx="715788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A44-D8BA-4B21-A9BB-BCC109E6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93F-98F4-4542-9F46-BE80169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DC0-4329-4A44-8B00-7455E85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69E-6608-43BC-B693-8290C0C8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477120" y="304920"/>
            <a:ext cx="1904760" cy="657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4188-8013-40A0-96C5-871EC783401B}" type="slidenum">
              <a:rPr b="0" lang="es-A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4D7B-EF2B-4B3D-AEF8-D49F9AD46782}" type="slidenum">
              <a:rPr b="0" lang="es-A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5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ventas@boherdi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I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35812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Sistema Monitor de Arco Intern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14800" y="1697040"/>
            <a:ext cx="31240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quipamento MAI2-CC-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em 5 placas extraíve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Fonte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limentação do equipamen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Lógica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cide quando dispar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Disparo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fetua os dispar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Detectores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ermite a conexão das fibras ótic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Corrente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edição de corr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1409760" cy="139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FCC-41B8-47A3-8F02-DFB0E47A98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quipamento MO2 – Misturador ó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limentação Vcc (bornes 5 e 6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1 saída de alarme (NF) por supervisao interna (bornes 7 e 8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3 entradas óticas (opcional 4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1 saída ó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ntradas não respondem a uma luz permanen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Limiar de luz: 1000lux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43680" y="3203640"/>
            <a:ext cx="1379520" cy="16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309-0D73-4654-A16C-2FB276201D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quipamento MO2 – Misturador ó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92929"/>
                </a:solidFill>
                <a:latin typeface="Arial"/>
              </a:rPr>
              <a:t>Operação: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saída ótica = OR lógico das entrada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Unifica os sinais de três captadores instalados em um mesmo cubícul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Tempo de operação desde o arco até repetição de luz: &lt;1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56040" y="2630520"/>
            <a:ext cx="375444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3DC-C96C-44F8-832C-B1FECEFB6B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aptadores e fibra ó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aptadores extraíveis com amplo ângulo de detec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uporte de sujei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Fibra ótica de plástico, robusta e maleáve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peração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aptadores: detectam luz de arc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Fibras: conduzem luz de arco ou de sin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05480" y="4114800"/>
            <a:ext cx="2455920" cy="198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86400" y="1832040"/>
            <a:ext cx="243828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8E0-0BFC-4692-A8F6-133CE37315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I2- placa F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Entrada: 48/110/220Vc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aída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12V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17V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Relé de alarme NF (bornes 5-6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Led amarel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49320" y="2630520"/>
            <a:ext cx="375444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DF5-BE70-47B1-8BC8-E8C0AD00D4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I2 - placa 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Recebe informação da placa de detectore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No modelo CC, recebe informação da placa corren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nvia sinal à placa Dispar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cide quando disparar e sinaliz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49320" y="2630520"/>
            <a:ext cx="375444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E5C-7FAD-48E6-9BA2-51A434FBAA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I2 - placa 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628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inalização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Led verde: sobrecorre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Led vermelho : atuação (retido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isplay (retido)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onto: Stand b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ígito: numero da entrada que viu lu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aída de alarme: atuação (retida, 2NA, bornes 21-22 e 23-24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Pulsador res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43800" y="1981080"/>
            <a:ext cx="793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3C4-2FB8-4202-81D0-28659AA38E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I2 - placa 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484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onfiguração mediante três pont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Corrente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Com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só se dispara se tem corrente + lu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em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dispara quando tem sinal de lu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Inibição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Sim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inibe a retransmissão da entrada 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Não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entrada 8 é norm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Receptor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Luz: 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o sinal nas entradas 43,44 e 45 é lu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Corrente</a:t>
            </a: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: o sinal nas entradas 43,44 e 45 e sobrecorr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43600" y="3286080"/>
            <a:ext cx="2666880" cy="1505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943600" y="3505320"/>
            <a:ext cx="9907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114800"/>
            <a:ext cx="10666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3581280"/>
            <a:ext cx="53316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DA7-9181-4B58-BEA2-2CDDC7AD69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I2 - placa Disparo 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193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5 transistores de saída (Vcc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ax. Corrente: 5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icial: 10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isparo temporizado 200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Recebe sinal da placa Lóg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Tem possibilidade de bloqueio de saída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14600" y="1981080"/>
            <a:ext cx="2422440" cy="198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406520" y="4114800"/>
            <a:ext cx="284004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1AB-5E8C-4EA1-968C-2B5FE9D00E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I2 - placa Disparo 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4 triacs de saída (AC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áx. corrente: 1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icial: 10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1 transistor de saí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áx. corrente: 80m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áx tensão: 250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isparo temporizado 200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Recebe sinal da placa Lóg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49320" y="2771640"/>
            <a:ext cx="331776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472-5304-4A4E-8026-2FD446156A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problema do arco elé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Causas do arco elétric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Erros human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Conexões deficient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Anima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Falha de equipamento ou materia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Sujeira e/ou detrit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E2B-EE5A-41B5-9092-14D63087AB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I2 - placa Dete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63840" y="1981080"/>
            <a:ext cx="2525400" cy="1981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8 entradas de luz de arco (35-4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3 entradas configuráveis (luz ou corrente, 43-45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1 saída de repetição  de luz de arco (33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1 saída de repetição de sobrecorrente (34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rotetor ótic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1440" y="4114800"/>
            <a:ext cx="276876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930-FD8A-4E49-8B10-C5F4A4AD944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I2 - placa de Corr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430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edição de corrente trifás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xtraível com conector de curto circui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uas versões: 1A ou 5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inalizaçã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Led verde: sobrecorren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ulsador Tes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Pulsador Res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aída de alarme NA (bornes 19-20) Sobrecorren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Saída de alarme NA (bornes 17-18) Supervisão dos transformador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Limiar de sobrecorrente ajustável (1,5 a 3In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00600" y="2057400"/>
            <a:ext cx="28767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3A1-B859-434C-AD76-8A85DB2AC0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I2 - placa de Cor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peraçã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Quando corrente &gt; limiar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Liga-se o led ver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Liga-se a saída de alarme (bornes 19-20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nvia-se sinal de sobrecorrente à placa Lógic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Transmite-se sinal de sobrecorrente pela saída ótica 3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 led verde e a saída de alarme ficam reti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ulsador Test: simula corrente superior ao lim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832360" y="2160720"/>
            <a:ext cx="1803600" cy="375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9B9-8D99-4867-84DD-01DE2DD707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Resumo: Configur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laca </a:t>
            </a:r>
            <a:r>
              <a:rPr b="1" i="1" lang="pt-BR" sz="3200" spc="-1" strike="noStrike">
                <a:solidFill>
                  <a:srgbClr val="292929"/>
                </a:solidFill>
                <a:latin typeface="Arial"/>
              </a:rPr>
              <a:t>Lógica</a:t>
            </a: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 - Ponte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292929"/>
                </a:solidFill>
                <a:latin typeface="Arial"/>
              </a:rPr>
              <a:t>Corrente (com – sem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292929"/>
                </a:solidFill>
                <a:latin typeface="Arial"/>
              </a:rPr>
              <a:t>Inibição (sim – não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292929"/>
                </a:solidFill>
                <a:latin typeface="Arial"/>
              </a:rPr>
              <a:t>Receptor (luz – corrent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laca</a:t>
            </a:r>
            <a:r>
              <a:rPr b="1" lang="pt-BR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292929"/>
                </a:solidFill>
                <a:latin typeface="Arial"/>
              </a:rPr>
              <a:t>Corren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Potenciômetro para ajuste de </a:t>
            </a: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Limiar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de sobrecorrente</a:t>
            </a: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 (1,5In - 3I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4F5-A9B9-4C2D-965A-E2DAEF0A55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Resumo: Alar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MAI2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isparo – 2NA (21-22 e 23-24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obrecorrente – 1NA (19-20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alha transductor corrente - 1NF (17-18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alha alimentação – 1NF (5-6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MO2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alha de alimentação – 1NF (7-8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B98-230D-4757-BE4E-BF537F2406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 MAI - Descrição fun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Concexão típic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1 captador por compartimen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1 MO2 por cubícul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1 MAI2CC por cada cubículo de entrad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1 MAI2 para 8 cubícul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FFE-881C-4062-9AC7-08E337D9E9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nutenção - Preven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O sistema é praticamente livre de manutençã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Recomendamos Inspeção periódic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Limpar os captadores ótic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juste de bornes e </a:t>
            </a:r>
            <a:r>
              <a:rPr b="0" lang="es-AR" sz="2800" spc="-1" strike="noStrike">
                <a:solidFill>
                  <a:srgbClr val="292929"/>
                </a:solidFill>
                <a:latin typeface="Arial"/>
              </a:rPr>
              <a:t>conexõ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este funcional comple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C1A-AEB2-4541-A191-BDA770CE1A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nutenção - Corre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Identificar a placa com falh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aídas de alarme ativ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Le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Verificar trocando a pla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92929"/>
                </a:solidFill>
                <a:latin typeface="Arial"/>
              </a:rPr>
              <a:t>Será preciso desligar previamente a alimentação do equipamen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Entrar em contato com Boherdi Electrón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2F0-80D0-446D-B1DF-29962C362D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herdi Electrónica S. R. 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292929"/>
                </a:solidFill>
                <a:latin typeface="Arial"/>
              </a:rPr>
              <a:t>www.boherdi.co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ventas@boherdi.co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292929"/>
                </a:solidFill>
                <a:latin typeface="Arial"/>
              </a:rPr>
              <a:t>Muñiz 1858 (C1255ACP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292929"/>
                </a:solidFill>
                <a:latin typeface="Arial"/>
              </a:rPr>
              <a:t>Buenos Ai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292929"/>
                </a:solidFill>
                <a:latin typeface="Arial"/>
              </a:rPr>
              <a:t>República Argentin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0CD-EF85-43E6-88F8-254DAA79EC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problema do arco elé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Descrição do fenômen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Grande quantidade de energia em poucos milisegund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Dano &gt; Energia &gt; I</a:t>
            </a:r>
            <a:r>
              <a:rPr b="0" lang="pt-BR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ossibilidade de  atua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orre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emp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D29-F883-4960-8AD4-2E8E4716D4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problema do arco elé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ano em relação ao tempo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ase de compressão: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5 a 15m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ase de expansão: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5 a 15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ase de expulsão: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40 a 60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ase térmica: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té que se deslig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782-F4F9-40D8-8F51-A6486BAC22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problema do arco elé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onseqüências das falhas com arco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Risco de vida para os empregado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anos aos equipamentos e a infra-estrutu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Perda de produtividade (tempo de restabelecimento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004-E10C-4E2A-A083-448D92A863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istema M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1379520" cy="1668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Equipamento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MAI2SC y MAI2CC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onitores de arco intern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MO2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isturador ótic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aptadores e fibra ótic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1515960" cy="1676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14400" y="4419720"/>
            <a:ext cx="1555920" cy="1119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971800" y="1981080"/>
            <a:ext cx="1409760" cy="13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977-3DCD-4CD3-BDB5-7B47866340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quipamento MAI2-SC-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8 entradas de luz de arc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4/5 saídas de disparo (TC/TR) (estado sólido, capazes de ativar o disjuntor em forma diret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3 entradas óticas (sinal de sobrecorrente por fibr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2 saídas óticas (sobrecorrente e luz de arc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2 contatos NA para sinalizar dispa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1 contato NF alarma por supervisão intern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151632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C73-85C0-4DF7-B8F0-9E83C02E61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quipamento MAI2-SC-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198108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em 4 placas extraíve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Fonte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limentação do equipamen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Lógica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cide quando dispar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Disparo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fetua os dispar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Detectores</a:t>
            </a: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ermite a conexão das fibras ótic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1515960" cy="16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8D7-1A42-42F5-9FC2-1F5D56EC24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380880"/>
            <a:ext cx="7157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quipamento MAI2-CC-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8 entradas de luz de arc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4/5 saídas de disparo (TC/TR) (estado sólido, capazes de ativar disjuntor em forma diret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3 entradas óticas (sinal de sobrecorrente por fibr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2 saídas óticas (sobrecorrente e luz de arc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2 contatos NA para sinalizar dispa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1 contato NF alarma por supervisão intern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edição de corren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409760" cy="13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4-562 rev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EBA-697D-43D5-8513-E086C506E5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20:58:04Z</dcterms:created>
  <dc:creator>Usuario</dc:creator>
  <dc:description/>
  <dc:language>en-US</dc:language>
  <cp:lastModifiedBy>Luis Motrel</cp:lastModifiedBy>
  <dcterms:modified xsi:type="dcterms:W3CDTF">2006-12-07T14:54:00Z</dcterms:modified>
  <cp:revision>271</cp:revision>
  <dc:subject/>
  <dc:title>CV2000</dc:title>
</cp:coreProperties>
</file>